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A502-3459-4EBF-B219-63744CC9F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7816-8B39-4DA1-898D-F4FDDA16C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1FF5-8B5F-4514-ACFD-22D0F7161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0797-A38B-4B65-B877-C0A68E09E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35FE1-E432-4127-83FC-EDB8874860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8476C-BEA0-4FD3-A97B-EF104F2F8C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3D3D-61C9-46F8-98D6-3459FB5206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8F327-EB8C-4F80-9E09-6E482DAD94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0FAE1-C2AB-473F-AEC5-3E1017150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A917F-A823-42F3-9C48-1198428EEC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7D5E0-03C9-4FD8-A72A-31443F1BE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7AAF-65E7-47D0-B098-6D0FAD9E1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60155-F21B-4C23-A8C9-23A5D4F73F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A0DCD-C2C0-4F83-9679-AFFAE754F0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49CEC-C509-4A8D-B8F4-BCE75746E1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8728A-2141-4D6D-98C3-0CB5BD2B19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4EC9F-5AA0-4FD3-B6E7-46A05E219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FFB1-13E7-418F-A582-E47C2EE35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139C-FA8A-4E14-9FA2-C9F03F710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74CE-B10E-4FB1-AF4A-1C14C4C11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6711-1D59-48E2-909F-DF4B846A5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F9DC-C8D0-46DE-A8E9-009233028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70A1-5070-419C-AC06-BB2C992BD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909D-062C-4B41-A126-D65F88F48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4667-71B9-4E0E-935B-0D24CFAC9D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5033-7251-4AD3-A6D7-9DBB8B1EBA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Garamond"/>
              </a:rPr>
              <a:t>Chapter 13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Garamond"/>
              </a:rPr>
              <a:t>Introduction to Linear Regression and Correlation Analysis</a:t>
            </a:r>
            <a:endParaRPr b="0" lang="en-US" sz="45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50AE1-9F5A-4221-952D-280BCEB2B1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rrelation Coefficien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population correlation coefficient  </a:t>
            </a:r>
            <a:r>
              <a:rPr b="0" lang="el-GR" sz="2900" spc="-1" strike="noStrike">
                <a:solidFill>
                  <a:srgbClr val="afbf39"/>
                </a:solidFill>
                <a:latin typeface="Arial"/>
                <a:ea typeface="Arial"/>
              </a:rPr>
              <a:t>ρ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(rho) measures the strength of the association between th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sample correlation coefficient  r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is an estimate of 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nd is used to measure the strength of the linear relationship in the sample observ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4842-0E0D-41AE-9F87-CE55E92588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Features of 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ρ</a:t>
            </a:r>
            <a:r>
              <a:rPr b="0" lang="en-US" sz="4200" spc="-1" strike="noStrike">
                <a:solidFill>
                  <a:srgbClr val="0900bc"/>
                </a:solidFill>
                <a:latin typeface="Symbol"/>
                <a:ea typeface="Symbol"/>
              </a:rPr>
              <a:t>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and  r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 f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e between -1 and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oser to -1, the stronger the negative linear 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oser to 1, the stronger the positive linear 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oser to 0, the weaker the linear 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DEE9-43E8-4D09-8E3C-9A4A74E9B4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s of Approximat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 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" y="260028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51000" y="275256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7282800">
            <a:off x="2467440" y="3438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7282800">
            <a:off x="1857960" y="3209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rot="7282800">
            <a:off x="1400760" y="3057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rot="7282800">
            <a:off x="410040" y="2676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7282800">
            <a:off x="790920" y="2828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7282800">
            <a:off x="1172160" y="2980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560" y="206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" y="41241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rot="7282800">
            <a:off x="2086560" y="3285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9200" y="389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2920" y="26766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92640" y="2820600"/>
            <a:ext cx="257472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4317200">
            <a:off x="5509800" y="3811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4317200">
            <a:off x="5433480" y="343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4317200">
            <a:off x="3604680" y="2439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4317200">
            <a:off x="3757320" y="2820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4317200">
            <a:off x="5128920" y="3658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4317200">
            <a:off x="3452400" y="3125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4317200">
            <a:off x="4747680" y="343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4317200">
            <a:off x="4214520" y="2820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4317200">
            <a:off x="4443120" y="266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4317200">
            <a:off x="5281200" y="32014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4317200">
            <a:off x="3833280" y="3125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4317200">
            <a:off x="5052600" y="29728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4317200">
            <a:off x="4138200" y="3125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4317200">
            <a:off x="4519080" y="32014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4317200">
            <a:off x="4290480" y="343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22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82920" y="412416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084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54720" y="252396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4317200">
            <a:off x="6683040" y="3438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4317200">
            <a:off x="8511840" y="27522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4317200">
            <a:off x="8664120" y="3057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4317200">
            <a:off x="7749720" y="3362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4317200">
            <a:off x="7826040" y="27522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4317200">
            <a:off x="7345080" y="2676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4317200">
            <a:off x="6530760" y="2828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4317200">
            <a:off x="6835320" y="2980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4317200">
            <a:off x="7140240" y="3168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4317200">
            <a:off x="7521120" y="3133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4317200">
            <a:off x="7292520" y="3438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0424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78480" y="41241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4317200">
            <a:off x="8259480" y="3285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1264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06400" y="51148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722600" y="526716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4317200">
            <a:off x="1782360" y="6257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4317200">
            <a:off x="1934640" y="5876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4317200">
            <a:off x="3687480" y="4885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4317200">
            <a:off x="3839760" y="5266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4317200">
            <a:off x="2239560" y="6105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4317200">
            <a:off x="3992040" y="5571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4317200">
            <a:off x="3230280" y="6105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4317200">
            <a:off x="3306240" y="4885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4317200">
            <a:off x="2620440" y="4962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4317200">
            <a:off x="1782360" y="5495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4317200">
            <a:off x="2163240" y="5190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4317200">
            <a:off x="2468160" y="5682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4317200">
            <a:off x="3458880" y="5800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4317200">
            <a:off x="2925360" y="5800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4317200">
            <a:off x="2773080" y="6257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1360" y="4808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06400" y="65628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4317200">
            <a:off x="3763440" y="5952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4056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83120" y="51148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135400" y="54198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6600" y="488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65628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4317200">
            <a:off x="5287680" y="5952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1728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31040" y="32097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4317200">
            <a:off x="5592240" y="5876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4317200">
            <a:off x="5897160" y="5800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4317200">
            <a:off x="6202080" y="5724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4317200">
            <a:off x="6659280" y="5571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4317200">
            <a:off x="6963840" y="5495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4317200">
            <a:off x="7497360" y="5343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4317200">
            <a:off x="3230280" y="5343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4317200">
            <a:off x="3001680" y="4809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4317200">
            <a:off x="2544480" y="5343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20" y="1143000"/>
            <a:ext cx="293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with appropriate val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, -.6, 0, +.3,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B342-7E71-4F7D-91E8-616975FB5C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arlier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742000" y="1676520"/>
            <a:ext cx="3402000" cy="18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74CB-1474-4A3F-829E-AEDC782771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3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kind of relationship would you expect in the following situ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(in years) of a car, and its pr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alories consumed per day and we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ight and IQ of a per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0A5E-D4FA-47A3-8EB5-A937C2A52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4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two variables that vary and decide which should be the independent variable and which should be the dependent variable. Sketch a graph that you think best represents the relationship between the two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ize of a persons vocabulary over his or her life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ance from the ceiling to the tip of the minute hand of a clock hung on the w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659A-9E50-4D18-9DED-F9F6ED25A1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Introduction to Regression Analysis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8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Regression analysi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938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938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Dependent variabl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Independent variabl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the variable used to explain the dependent 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1EEC-DB68-45C4-A4AC-212029A55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imple Linear Regression Model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11120" y="140004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900" spc="-1" strike="noStrike">
                <a:solidFill>
                  <a:srgbClr val="afbf39"/>
                </a:solidFill>
                <a:latin typeface="Arial"/>
              </a:rPr>
              <a:t>one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 independent variabl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ationship between  x  and  y  is described by a linear fun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hanges in  y  are assumed to be caused by changes in  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ABE5-42DE-4B26-83CC-7DB0A92EA0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ypes of Regression Mode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43080" y="202392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38040" y="2019240"/>
            <a:ext cx="42022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740120" y="2100240"/>
            <a:ext cx="4267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4735440" y="2095560"/>
            <a:ext cx="42782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99880" y="4419720"/>
            <a:ext cx="4114800" cy="2133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95200" y="4414680"/>
            <a:ext cx="4125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795920" y="44956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791240" y="4491000"/>
            <a:ext cx="427824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8480" y="1676520"/>
            <a:ext cx="389592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Linear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520" y="4110120"/>
            <a:ext cx="40482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Linear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0480" y="1676520"/>
            <a:ext cx="35910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NOT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34240" y="4110120"/>
            <a:ext cx="244764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297E-4FF6-4E0F-BA21-3DC83063DB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981080" y="3429000"/>
                <a:ext cx="5410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3579480" y="48006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Population Linear Regress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72400" y="2286000"/>
            <a:ext cx="1147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, or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200400"/>
            <a:ext cx="46188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35053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96760" y="3388680"/>
            <a:ext cx="549000" cy="41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 rot="16200000">
            <a:off x="4569120" y="34308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 rot="16200000">
            <a:off x="6895800" y="4288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7080" y="4861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5BE9-A68C-4842-AA44-D8B158130F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hapter Go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960" y="1400040"/>
            <a:ext cx="8074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understand the methods for displaying and describing relationship among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7F43-6399-4397-B044-C0F24A02FE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Linear Regression Assumption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ror values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re statistically in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ror values are normally distributed for any given value of 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distribution of the errors i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distribution of the errors has constant vari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derlying relationship between the x variable and the y variable is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6892-37CC-4BB0-A8F5-1DD77D72CC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>
            <a:off x="2362320" y="4038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362320" y="2743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Population Linear Regress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7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097160" y="2865600"/>
            <a:ext cx="648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198520" y="2762280"/>
            <a:ext cx="6470640" cy="183024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7880" y="4514760"/>
            <a:ext cx="45396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73760" y="510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3733920"/>
            <a:ext cx="243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87480" y="169560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88280" y="556272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31080" y="24573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77960" y="4444920"/>
            <a:ext cx="45576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14800" y="47084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35812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21400" y="291456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51200" y="3881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11480" y="27655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11480" y="2825640"/>
            <a:ext cx="184320" cy="9216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1520" y="279576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22096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6400" y="22874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76400" y="28479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76400" y="3162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6400" y="34704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76400" y="37861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76400" y="41004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76400" y="4408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76400" y="47228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76400" y="50306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76400" y="53467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40086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0720" y="593568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24382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39760" y="4667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3276720"/>
            <a:ext cx="1676520" cy="144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458200" y="2819520"/>
            <a:ext cx="1440" cy="45720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172760" y="2990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21200" y="39816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36576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919680" y="1523880"/>
                <a:ext cx="3448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948840" y="5581800"/>
            <a:ext cx="3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68560" y="253368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800240" y="3657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2286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3200400"/>
            <a:ext cx="1676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48769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31240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910B-0DA6-4743-89DF-9777F5EF4C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590920" y="4191120"/>
                <a:ext cx="3573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regression line provides an </a:t>
            </a:r>
            <a:r>
              <a:rPr b="0" lang="en-US" sz="2400" spc="-1" strike="noStrike">
                <a:solidFill>
                  <a:srgbClr val="afbf39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stimated Regression Model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05" name=""/>
          <p:cNvSpPr/>
          <p:nvPr/>
        </p:nvSpPr>
        <p:spPr>
          <a:xfrm>
            <a:off x="3429000" y="281952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28954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38098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409720" y="358128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2819520"/>
            <a:ext cx="1752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33720" y="38098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396252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095880" y="43434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563868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The individual random error terms  e</a:t>
            </a:r>
            <a:r>
              <a:rPr b="0" lang="en-US" sz="2000" spc="-1" strike="noStrike" baseline="-25000">
                <a:solidFill>
                  <a:srgbClr val="afbf3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  have a mean of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F80F-6ADF-47D8-A0E7-876055883B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arlier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E42D-46DB-4579-B162-33741F6352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sidua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the difference between the observed response y and the predicted respon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 Thus, for each pair of observ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), the i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residual is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− (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66B6-7DAA-4A72-BAED-0715FEBBD3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Least Squares Criter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90480" y="1399680"/>
            <a:ext cx="76852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minimize the sum of the squared residu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209680" y="3618000"/>
                <a:ext cx="507708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9C05-090E-459E-B933-2EE4486460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846000" y="1490760"/>
            <a:ext cx="760752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83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8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the estimated change in the average value of y as a result of a one-unit change in x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 of th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lope and the Intercep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4239-608D-456A-9D84-4552C28393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he Least Squares Equ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09320"/>
            <a:ext cx="62103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rmulas for 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38862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e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600200" y="4430880"/>
                <a:ext cx="304812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447920" y="2514600"/>
                <a:ext cx="3200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43600" y="5029200"/>
                <a:ext cx="198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571500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151F-EC64-46B6-8418-0DD3B37659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Finding the Least Squares Equation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will usually be found using computer software, such as Excel, Minitab, or SPS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ther regression measures will also be computed as part of computer-based regression analys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BE91-B5BA-4CD2-BC0C-C6197E663D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Simple Linear Regression Example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Dependent variable (y) = house price </a:t>
            </a:r>
            <a:r>
              <a:rPr b="0" lang="en-US" sz="2500" spc="-1" strike="noStrike">
                <a:solidFill>
                  <a:srgbClr val="afbf39"/>
                </a:solidFill>
                <a:latin typeface="Arial"/>
              </a:rPr>
              <a:t>in $1000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Independent variable (x) = square fe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7FAD-0622-4EF0-BF45-841D60051A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Methods for Studying Relationships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p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-D p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cy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FBD4-D265-4C0F-83D1-47D6FC5B06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Sample Data for House Price Model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523880" y="1600200"/>
          <a:ext cx="6096240" cy="4462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2C3A-0CC3-4660-AA62-FE094C6FE6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3602160" cy="1116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5157720" cy="14634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PSS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f39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855960" y="2438280"/>
                <a:ext cx="45752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41148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8E49-C670-48A3-94C0-4F10156641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Graphical Present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45344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60680" y="5943600"/>
                <a:ext cx="45752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4345-116C-4D33-8655-AF9C5479DD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4400" y="4648320"/>
            <a:ext cx="205740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 of th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cept,  b</a:t>
            </a:r>
            <a:r>
              <a:rPr b="0" lang="en-US" sz="4200" spc="-1" strike="noStrike" baseline="-25000">
                <a:solidFill>
                  <a:srgbClr val="0900bc"/>
                </a:solidFill>
                <a:latin typeface="Garamond"/>
              </a:rPr>
              <a:t>0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7696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Here, no houses had 0 square feet, so b</a:t>
            </a:r>
            <a:r>
              <a:rPr b="0" lang="en-US" sz="2600" spc="-1" strike="noStrike" baseline="-25000">
                <a:solidFill>
                  <a:srgbClr val="afbf39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38080" y="1905120"/>
                <a:ext cx="63817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C19D-5432-4098-8A7D-0B116E4196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 of th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lope Coefficient,  b</a:t>
            </a:r>
            <a:r>
              <a:rPr b="0" lang="en-US" sz="4200" spc="-1" strike="noStrike" baseline="-25000">
                <a:solidFill>
                  <a:srgbClr val="0900bc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77320" cy="38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10000"/>
              </a:lnSpc>
              <a:spcBef>
                <a:spcPts val="13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Here, b</a:t>
            </a:r>
            <a:r>
              <a:rPr b="0" lang="en-US" sz="2600" spc="-1" strike="noStrike" baseline="-25000">
                <a:solidFill>
                  <a:srgbClr val="afbf39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A0FB-91BB-4961-BDB7-E86A4946B3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Least Squares Regression Properti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2720" y="1309680"/>
            <a:ext cx="7918560" cy="490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m of the residuals from the least squares regression line is 0   (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m of the squared residuals is a minimum (minimized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e regression line always passes through the mean of the y variable and the mean of the x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east squares coefficients are unbiased estimates of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4343400" y="1828800"/>
                <a:ext cx="1600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895480" y="2819520"/>
                <a:ext cx="152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DC8C-9A9A-452E-B297-0D99F8B688D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6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growth of children from early childhood through adolescence generally follows a linear pattern. Data on the heights of female Americans during childhood, from four to nine years old, were compiled and the least squares regression line was obtained a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32 + 2.4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predicted height in inches,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age in yea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pret the value of the estimated slop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2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uld interpretation of the value of the estimate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intercept, 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32, make sense he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would you predict the height to be for a female American at 8 years ol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would you predict the height to be for a female American at 25 years old? How does the quality of this answer compare to the previous questio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986A-584D-4FF9-B204-489F7A798E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612720" y="1219320"/>
            <a:ext cx="784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coefficient of determina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R-squar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R</a:t>
            </a:r>
            <a:r>
              <a:rPr b="0" lang="en-US" sz="2900" spc="-1" strike="noStrike" baseline="30000">
                <a:solidFill>
                  <a:srgbClr val="afbf39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efficient of Determination, 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276720" y="4800600"/>
                <a:ext cx="1981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D619-91CB-4D10-A5C3-6DF1180E47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efficient of Determination, 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9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1981080"/>
            <a:ext cx="73152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single independent variable case, the coefficient of determinatio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efficient of de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Simple correlation co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581280" y="2590920"/>
                <a:ext cx="1828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7FAC-55E6-406F-B835-60DC66A349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s of Approximat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93" name="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7440" y="176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9608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16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2200" y="578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88040" y="229392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5297040" y="243828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4317200">
            <a:off x="7573680" y="336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4317200">
            <a:off x="733860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4317200">
            <a:off x="5509800" y="2057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4317200">
            <a:off x="586692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4317200">
            <a:off x="703368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4317200">
            <a:off x="535752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4317200">
            <a:off x="6629040" y="3200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4317200">
            <a:off x="6049440" y="2217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4317200">
            <a:off x="6887880" y="2522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4317200">
            <a:off x="7345080" y="2674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4317200">
            <a:off x="57146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4317200">
            <a:off x="6506640" y="2522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4317200">
            <a:off x="6049440" y="2827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4317200">
            <a:off x="647676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7320" y="167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88040" y="37418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7584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156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297400" y="472428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4317200">
            <a:off x="550980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4317200">
            <a:off x="550980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4317200">
            <a:off x="726228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4317200">
            <a:off x="741492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4317200">
            <a:off x="596700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4317200">
            <a:off x="726228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4317200">
            <a:off x="680508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4317200">
            <a:off x="688140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4317200">
            <a:off x="634788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4317200">
            <a:off x="543348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4317200">
            <a:off x="5662080" y="4571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4317200">
            <a:off x="6043320" y="514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4317200">
            <a:off x="688140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4317200">
            <a:off x="650052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4317200">
            <a:off x="634788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50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8156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4317200">
            <a:off x="764352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45600" y="586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4317200">
            <a:off x="680508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4317200">
            <a:off x="665280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4317200">
            <a:off x="611928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4317200">
            <a:off x="693396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4317200">
            <a:off x="6202080" y="2522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4317200">
            <a:off x="6202080" y="3055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4317200">
            <a:off x="7345080" y="5341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AFAF-EB62-41CB-A4D3-742932C219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wo Quantitative Variabl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sponse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the variable we want to predict, and is usually denoted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planatory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the variable that attempts to explain the response, and is denoted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B099-5A43-4708-AB1C-F3D616C1AC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s of Approximat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65" name="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5400" y="255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9920" y="445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31880" y="46134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9A4D-B4E3-4795-9994-E85656E3800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PSS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602160" cy="11160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5083200" cy="1646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51580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5DB6-9CFD-40ED-BACA-CCA4F7A664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andard Error of Estimat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andard deviation of the variation of observations around the regression line is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ndard error of est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andard error of the regression slope coefficient (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is given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7086600" y="2590920"/>
                <a:ext cx="552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55D3-95D5-4FB7-8A1D-7A6967BD1B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114800" cy="12747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6705720" cy="19033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PSS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3276720" y="1980720"/>
            <a:ext cx="685800" cy="8384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962520" y="1555920"/>
                <a:ext cx="2438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V="1">
            <a:off x="3200400" y="3276720"/>
            <a:ext cx="1447920" cy="21333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343400" y="2666880"/>
                <a:ext cx="2438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22A0-E346-4FAA-9848-316BB0523B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mparing Standard Error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006560" y="47242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4317200">
            <a:off x="121896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4317200">
            <a:off x="121896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14317200">
            <a:off x="297144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14317200">
            <a:off x="312372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4317200">
            <a:off x="167616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4317200">
            <a:off x="297144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4317200">
            <a:off x="251424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4317200">
            <a:off x="259056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4317200">
            <a:off x="205704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4317200">
            <a:off x="114264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4317200">
            <a:off x="1371240" y="4571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4317200">
            <a:off x="1752120" y="514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4317200">
            <a:off x="25905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4317200">
            <a:off x="220932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4317200">
            <a:off x="205704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63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4317200">
            <a:off x="335232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4317200">
            <a:off x="251424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4317200">
            <a:off x="236196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4317200">
            <a:off x="182844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4317200">
            <a:off x="3053880" y="5341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006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4317200">
            <a:off x="114264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4317200">
            <a:off x="121896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4317200">
            <a:off x="3352320" y="2057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4317200">
            <a:off x="3123720" y="2209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4317200">
            <a:off x="159984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4317200">
            <a:off x="29714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4317200">
            <a:off x="2742840" y="2209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4317200">
            <a:off x="144756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4317200">
            <a:off x="18284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4317200">
            <a:off x="220932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4317200">
            <a:off x="190476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3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90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4317200">
            <a:off x="2285640" y="2514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4317200">
            <a:off x="251424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4317200">
            <a:off x="20570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4317200">
            <a:off x="335232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562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5578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35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02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0868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774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638680" y="228564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638680" y="205704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867280" y="4495320"/>
            <a:ext cx="20574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35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562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4200" y="594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91320" y="5105520"/>
            <a:ext cx="2361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638680" y="4800240"/>
            <a:ext cx="24386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3581280"/>
                <a:ext cx="1090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172200" y="6095880"/>
                <a:ext cx="106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565280" y="3594240"/>
                <a:ext cx="1020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655640" y="6110280"/>
                <a:ext cx="9748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>
            <a:off x="1219320" y="14479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observed y values from the regre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38680" y="1447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in the slope of regression lines from different possible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5F4B-10CC-4558-AEBE-40722D6E9B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ference about the Slope: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 Tes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048120" y="4419720"/>
                <a:ext cx="19476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5638680" y="4343400"/>
            <a:ext cx="335304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ample regression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stimator of th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1398-0418-4473-B076-1506A55B38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"/>
          <p:cNvGraphicFramePr/>
          <p:nvPr/>
        </p:nvGraphicFramePr>
        <p:xfrm>
          <a:off x="228600" y="1905120"/>
          <a:ext cx="2819160" cy="417348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82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ference about the Slope: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 Tes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82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16ED-72A9-4867-868F-A4B1EB1455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ferences about the Slope: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</a:t>
            </a:r>
            <a:r>
              <a:rPr b="0" i="1" lang="en-US" sz="4200" spc="-1" strike="noStrike">
                <a:solidFill>
                  <a:srgbClr val="0900bc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est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752840" cy="106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ab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9092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819520" y="2743200"/>
          <a:ext cx="6324480" cy="1004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4572000" y="3429000"/>
            <a:ext cx="1104840" cy="30492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195960" y="3400560"/>
            <a:ext cx="1042920" cy="3333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29520" y="3381480"/>
            <a:ext cx="1000080" cy="35244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524200" y="2514600"/>
            <a:ext cx="1028520" cy="914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048080" y="2514600"/>
            <a:ext cx="304920" cy="914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8038800" y="2514600"/>
            <a:ext cx="266760" cy="914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731520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8" name="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solidFill>
            <a:srgbClr val="abffe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00800" y="2057400"/>
            <a:ext cx="533520" cy="510120"/>
          </a:xfrm>
          <a:prstGeom prst="rect">
            <a:avLst/>
          </a:prstGeom>
          <a:solidFill>
            <a:srgbClr val="abffe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14800" y="396252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62320" y="609588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609588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90720" y="5638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90920" y="563868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1-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7621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3623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276720" y="6019920"/>
            <a:ext cx="838080" cy="39384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152280" y="3809880"/>
            <a:ext cx="152424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352680" y="5333760"/>
            <a:ext cx="0" cy="68580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2B69-8384-484E-81EF-F73CA7F4E85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gression Analysis for Descrip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30" name="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3397320" y="2133720"/>
                <a:ext cx="2882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4" name=""/>
          <p:cNvGraphicFramePr/>
          <p:nvPr/>
        </p:nvGraphicFramePr>
        <p:xfrm>
          <a:off x="304920" y="3733920"/>
          <a:ext cx="8381880" cy="90936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560"/>
                <a:gridCol w="990720"/>
                <a:gridCol w="880920"/>
                <a:gridCol w="1252800"/>
                <a:gridCol w="1143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48E5-E4E4-4B5B-BB2C-35DF6804873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gression Analysis for Descrip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304920" y="1905120"/>
          <a:ext cx="8381880" cy="90936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560"/>
                <a:gridCol w="990720"/>
                <a:gridCol w="880920"/>
                <a:gridCol w="1252800"/>
                <a:gridCol w="1143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43" name="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8A36-27C4-4ED9-B94D-4A5CBDBBAFA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1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774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 (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s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A108-3B73-4A6A-8AA3-F98A142703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Analysi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50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e for linearity as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e for constant variance for all levels of x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normal distribution as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ical Analysis of Res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plot residuals vs.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reate histogram of residuals to check for norm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87AC-8381-45FD-B776-5CE08F07C8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Analysis for Linearity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523800" y="594360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1662120" y="5946840"/>
            <a:ext cx="18432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34120" y="6022800"/>
            <a:ext cx="1262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67440" y="586728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2400" y="4576680"/>
            <a:ext cx="0" cy="11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2400" y="5029200"/>
            <a:ext cx="351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2394200">
            <a:off x="600840" y="4612320"/>
            <a:ext cx="5188680" cy="35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10"/>
                </a:moveTo>
                <a:arcTo wR="10800" hR="10800" stAng="3036" swAng="5969082"/>
                <a:lnTo>
                  <a:pt x="10800" y="10800"/>
                </a:lnTo>
                <a:close/>
              </a:path>
              <a:path fill="none" w="21600" h="21600">
                <a:moveTo>
                  <a:pt x="21600" y="10810"/>
                </a:moveTo>
                <a:arcTo wR="10800" hR="10800" stAng="3036" swAng="5969082"/>
              </a:path>
            </a:pathLst>
          </a:custGeom>
          <a:noFill/>
          <a:ln cap="rnd"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2394200">
            <a:off x="768960" y="5490720"/>
            <a:ext cx="5187600" cy="35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10"/>
                </a:moveTo>
                <a:arcTo wR="10800" hR="10800" stAng="3036" swAng="5717185"/>
                <a:lnTo>
                  <a:pt x="10800" y="10800"/>
                </a:lnTo>
                <a:close/>
              </a:path>
              <a:path fill="none" w="21600" h="21600">
                <a:moveTo>
                  <a:pt x="21600" y="10810"/>
                </a:moveTo>
                <a:arcTo wR="10800" hR="10800" stAng="3036" swAng="5717185"/>
              </a:path>
            </a:pathLst>
          </a:custGeom>
          <a:noFill/>
          <a:ln cap="rnd"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81000" y="5334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85920" y="5334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3384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62440" y="4495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6700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66800" y="5181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8128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6244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664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0524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2400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0960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3820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4312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8120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1944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4804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7080" y="480060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-15012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72120" y="503388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72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610480" y="480060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14960" y="4576680"/>
            <a:ext cx="319572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91280" y="5491080"/>
            <a:ext cx="311940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57920" y="48052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553000" y="4653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7212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2440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48440" y="4653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23880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238800" y="4576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55300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000920" y="4576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543720" y="472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391440" y="5262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93424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86720" y="48052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00092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96000" y="5033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86720" y="5110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5320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05840" y="5262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381800" y="472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067600" y="5262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15320" y="4653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296200" y="4881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91532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2400" y="236700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524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752400" y="22856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14317200">
            <a:off x="1133280" y="3580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4317200">
            <a:off x="1514160" y="3428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14317200">
            <a:off x="288576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14317200">
            <a:off x="31143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4317200">
            <a:off x="3580920" y="2133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4317200">
            <a:off x="181908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rot="14317200">
            <a:off x="3419280" y="243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4317200">
            <a:off x="380952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4317200">
            <a:off x="380952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4317200">
            <a:off x="411444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4317200">
            <a:off x="3276360" y="2057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4317200">
            <a:off x="242856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4317200">
            <a:off x="258084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4317200">
            <a:off x="2285640" y="2361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14317200">
            <a:off x="136188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4317200">
            <a:off x="159048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14317200">
            <a:off x="189504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4317200">
            <a:off x="273348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14317200">
            <a:off x="19713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4317200">
            <a:off x="419076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4317200">
            <a:off x="219996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53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038480" y="365760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160" y="2325600"/>
            <a:ext cx="6120" cy="15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111640" y="22442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4317200">
            <a:off x="5171760" y="3504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4317200">
            <a:off x="540036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4317200">
            <a:off x="7076880" y="2133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4317200">
            <a:off x="72291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14317200">
            <a:off x="783864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14317200">
            <a:off x="562896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4317200">
            <a:off x="738144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14317200">
            <a:off x="783864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4317200">
            <a:off x="7991280" y="1939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4317200">
            <a:off x="753408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4317200">
            <a:off x="6467040" y="3123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4317200">
            <a:off x="65433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4317200">
            <a:off x="6162480" y="2361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4317200">
            <a:off x="524808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4317200">
            <a:off x="5552640" y="27428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4317200">
            <a:off x="5857560" y="293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14317200">
            <a:off x="677196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14317200">
            <a:off x="623844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4317200">
            <a:off x="821988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4317200">
            <a:off x="600984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4317200">
            <a:off x="8372160" y="2133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8787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38188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0958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4317200">
            <a:off x="707688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6200000">
            <a:off x="426888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40C3-207E-460A-9598-FD6C6BA08B0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Analysis for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stant Variance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29080" y="54864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76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970880" y="19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F8F1-33E9-4BF4-8B8A-55C5F3DEE00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8" name=""/>
          <p:cNvGraphicFramePr/>
          <p:nvPr/>
        </p:nvGraphicFramePr>
        <p:xfrm>
          <a:off x="3352680" y="20574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574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228600" y="1981080"/>
          <a:ext cx="3048120" cy="426420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 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ed House Pri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2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923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87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2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853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.06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37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99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.99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38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.38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.2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9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.17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3.17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6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33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.85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2E19-482C-471F-8BAB-FEEDBDE7424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catter Plots and Correl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scatter plo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or scatter diagram) is used to show the relationship between two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Correla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1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y concerned with strength of the relationship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1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ausal effect is impli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1D66-23F4-4F7E-8E88-59618BEEA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7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graph shows the scatterplot of Exam 1 score (x) and Exam 2 score (y) for 354 students in a class. Is there a relationshi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9760" y="1219320"/>
            <a:ext cx="403704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AC44-915A-42F0-BE01-89F54BBAFD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catter Plot Exampl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8833-A3A0-4A47-B705-7EF7FBF6F5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catter Plot Exampl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3240" y="438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92680" y="598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3240" y="21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92680" y="3780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3E71-5986-4620-83D5-70C1B7990F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Murali Shanker</cp:lastModifiedBy>
  <cp:lastPrinted>1998-11-22T23:37:53Z</cp:lastPrinted>
  <dcterms:modified xsi:type="dcterms:W3CDTF">2006-11-14T23:18:30Z</dcterms:modified>
  <cp:revision>92</cp:revision>
  <dc:subject>Chapter 13</dc:subject>
  <dc:title>Business Statistics: A Decision-Making Approach, 6th edition</dc:title>
</cp:coreProperties>
</file>